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AA9-C425-40D1-B238-AD46002E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45A-3325-4947-84D8-27261ABF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5A9-92FA-47C4-9034-83C12726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FF6-238B-4ED2-8471-06636395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807-B7D5-4BA7-A702-FCC2FC25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74A-EAB7-411F-A3B8-EBEAFAC6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89B-8280-4A71-87DA-D193783D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16B-5535-4E61-8C4B-849ED859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1F7-5158-4A46-ADF2-3B12F0C8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A3E-9003-4EB5-9772-9B7D1147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0C7-C8F0-46D8-A18D-A4C55CBB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A2D-CD34-44CA-BBCA-1B3CF94D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3AE0-7738-4BB7-A40B-BEF25381C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file:///tmp/home/.config/libreoffice/4/user/gallery/j0214098.wav" TargetMode="External"/><Relationship Id="rId4" Type="http://schemas.microsoft.com/office/2007/relationships/media" Target="file:///tmp/home/.config/libreoffice/4/user/gallery/j0214098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325440"/>
            <a:ext cx="754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80960"/>
            <a:ext cx="9144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01920" y="0"/>
            <a:ext cx="614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vember 12, 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Pages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522000">
            <a:off x="4266720" y="11430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963600">
            <a:off x="761760" y="2438280"/>
            <a:ext cx="1743120" cy="2256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32767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questions 1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54380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696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934320" y="5562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80773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553080" y="491508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57913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ww.readpages1-10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99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542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08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7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27574" b="0"/>
          <a:stretch/>
        </p:blipFill>
        <p:spPr>
          <a:xfrm>
            <a:off x="1371600" y="0"/>
            <a:ext cx="66168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6629400" cy="6215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9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545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297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41:43Z</dcterms:created>
  <dc:creator>Checkout</dc:creator>
  <dc:description/>
  <dc:language>en-US</dc:language>
  <cp:lastModifiedBy>VoelkerC</cp:lastModifiedBy>
  <dcterms:modified xsi:type="dcterms:W3CDTF">2009-11-11T14:37:24Z</dcterms:modified>
  <cp:revision>7</cp:revision>
  <dc:subject/>
  <dc:title>Slide 1</dc:title>
</cp:coreProperties>
</file>